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6BC9-ABBD-4C20-A4D0-440C4E92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46E9-CAB3-4551-9009-467458E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7186-349A-438E-A06A-7C0415D2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E916-132D-463D-8B08-74915979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0CB3-01BD-4F2B-A2B4-EA074902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7C92-28F2-4441-BC63-5615BE9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777-8F67-48FF-A5EA-EC01794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7ED6-E977-460F-B046-24F047F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0192-3F7B-4243-93E2-0DAFC9AC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19EF-4F4D-4874-A515-8A43A08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E781-9AEC-4E92-827F-8559143B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9181-C754-418C-ADB5-9B9E87C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DE6B-DB18-4F1F-A30F-D14BCC6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EA4C-390D-4935-9D84-E0E468F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3E7F-3037-4DAA-B6EE-E47F0E1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7DD9-7E61-45B7-ADE2-779A78DC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C7D-3E90-4FA7-87F3-C440165D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FA59-630D-4D32-AAEF-A7191D43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8EB5-8C11-4D13-AEB9-1C3CD9EC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9A11-1301-45CE-853F-F86BFFFA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251F-CF63-444F-B65C-C5DCA2C2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8981-8BA9-409F-A76F-10B5F29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E4A4-6B82-4D2A-BC76-155194C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FF07-938D-494A-B01C-CE66071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9181-C657-460D-B38B-5C6EEC8305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CC1-0BDA-4FFE-A222-1F48854C44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399"/>
              </a:spcBef>
              <a:spcAft>
                <a:spcPts val="38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убличные слушания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2007 г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8900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Город Енисейс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77488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Для повышения эффективности ЖКХ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необходимо денежных средст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2205000"/>
          <a:ext cx="8229600" cy="453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ево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76,8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ны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2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бюджетные источ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6,8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Итого: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665,6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C897-AC9C-4434-BF07-8F1DDD3C528F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3. Повышение эффективности жилищно-коммунального хозяйств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43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оительство: водозаборных сооружений и водовода (1 очередь);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ts val="36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оительство полигона твердых бытовых отходов (2 очередь);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ts val="43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еконструкция котельной по ул. Ленина, 160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ts val="3399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емонт тепловых сетей в центральной части го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1484280"/>
            <a:ext cx="8613720" cy="33480"/>
            <a:chOff x="250920" y="1484280"/>
            <a:chExt cx="8613720" cy="33480"/>
          </a:xfrm>
        </p:grpSpPr>
        <p:sp>
          <p:nvSpPr>
            <p:cNvPr id="144" name=""/>
            <p:cNvSpPr/>
            <p:nvPr/>
          </p:nvSpPr>
          <p:spPr>
            <a:xfrm>
              <a:off x="252360" y="151776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920" y="148428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76720" y="1700280"/>
            <a:ext cx="2808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7-2009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C706-1057-4FBD-8F14-0521D83D9146}" type="slidenum">
              <a:t>11</a:t>
            </a:fld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3. Повышение эффективности жилищно-коммунального хозяйств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8425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ts val="4499"/>
              </a:lnSpc>
              <a:spcBef>
                <a:spcPts val="41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Garamond"/>
              </a:rPr>
              <a:t>Реконструкция четырех котельных;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ts val="4499"/>
              </a:lnSpc>
              <a:spcBef>
                <a:spcPts val="41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Garamond"/>
              </a:rPr>
              <a:t>Капитальный ремонт дорог и объектов коммунального хозяйства;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ts val="4499"/>
              </a:lnSpc>
              <a:spcBef>
                <a:spcPts val="41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Garamond"/>
              </a:rPr>
              <a:t>строительство скотомогильника и полигона твердых бытовых отходов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43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0920" y="1484280"/>
            <a:ext cx="8613720" cy="33480"/>
            <a:chOff x="250920" y="1484280"/>
            <a:chExt cx="8613720" cy="33480"/>
          </a:xfrm>
        </p:grpSpPr>
        <p:sp>
          <p:nvSpPr>
            <p:cNvPr id="150" name=""/>
            <p:cNvSpPr/>
            <p:nvPr/>
          </p:nvSpPr>
          <p:spPr>
            <a:xfrm>
              <a:off x="252360" y="151776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20" y="148428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76720" y="1700280"/>
            <a:ext cx="2808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9-2012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9270-F488-47A5-B64F-7892C041A940}" type="slidenum">
              <a:t>12</a:t>
            </a:fld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3. Повышение эффективности жилищно-коммунального хозяйств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8425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ts val="4997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троительство новой котельной;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4997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ородских водопроводных сетей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4997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становка приборов учета тепловой энергии и во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ts val="43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0920" y="1484280"/>
            <a:ext cx="8613720" cy="33480"/>
            <a:chOff x="250920" y="1484280"/>
            <a:chExt cx="8613720" cy="33480"/>
          </a:xfrm>
        </p:grpSpPr>
        <p:sp>
          <p:nvSpPr>
            <p:cNvPr id="156" name=""/>
            <p:cNvSpPr/>
            <p:nvPr/>
          </p:nvSpPr>
          <p:spPr>
            <a:xfrm>
              <a:off x="252360" y="151776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920" y="148428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76720" y="1700280"/>
            <a:ext cx="2808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12-2017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374B-B5B2-4B43-8742-C188DE6B6AEE}" type="slidenum">
              <a:t>13</a:t>
            </a:fld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Для развития туристической отрасли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необходимо денежных средст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91628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ево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3,7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ны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6,4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бюджетные источ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72,6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Итого: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862,7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D0B2-1764-45E5-BB5F-1EB880875449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Garamond"/>
              </a:rPr>
              <a:t>4. Развитие туристической отрасл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836640"/>
            <a:ext cx="8613720" cy="33480"/>
            <a:chOff x="324000" y="836640"/>
            <a:chExt cx="8613720" cy="33480"/>
          </a:xfrm>
        </p:grpSpPr>
        <p:sp>
          <p:nvSpPr>
            <p:cNvPr id="163" name=""/>
            <p:cNvSpPr/>
            <p:nvPr/>
          </p:nvSpPr>
          <p:spPr>
            <a:xfrm>
              <a:off x="325440" y="87012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83664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221400" y="1383120"/>
            <a:ext cx="2795760" cy="7794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txBody>
          <a:bodyPr anchor="t">
            <a:normAutofit fontScale="7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7-2009 гг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907920"/>
            <a:ext cx="5761080" cy="3025800"/>
          </a:xfrm>
          <a:prstGeom prst="roundRect">
            <a:avLst>
              <a:gd name="adj" fmla="val 16667"/>
            </a:avLst>
          </a:prstGeom>
          <a:solidFill>
            <a:srgbClr val="000514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зработка ПСД, принятие нормативных актов, проведение исследовательских работ, проведение обучающих семинар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ительство автостоянок, открытие пунктов питания, стилизованных под 19 век, сохранение объектов культурного наслед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34136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292640"/>
            <a:ext cx="2808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9-2012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4292640"/>
            <a:ext cx="5832720" cy="2565360"/>
          </a:xfrm>
          <a:prstGeom prst="roundRect">
            <a:avLst>
              <a:gd name="adj" fmla="val 16667"/>
            </a:avLst>
          </a:prstGeom>
          <a:solidFill>
            <a:srgbClr val="000514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маркетингового центра, приобретение транспортных средств,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ительство гостиничного комплекса, дорог, деревенских усадеб-заимок, охотничьих дом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92000" y="4878360"/>
            <a:ext cx="1655640" cy="2303280"/>
          </a:xfrm>
          <a:custGeom>
            <a:avLst/>
            <a:gdLst>
              <a:gd name="textAreaLeft" fmla="*/ 454320 w 1655640"/>
              <a:gd name="textAreaRight" fmla="*/ 1390680 w 1655640"/>
              <a:gd name="textAreaTop" fmla="*/ 1477440 h 2303280"/>
              <a:gd name="textAreaBottom" fmla="*/ 19346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7313"/>
                </a:moveTo>
                <a:lnTo>
                  <a:pt x="13855" y="17313"/>
                </a:lnTo>
                <a:lnTo>
                  <a:pt x="13855" y="5930"/>
                </a:lnTo>
                <a:lnTo>
                  <a:pt x="10397" y="5930"/>
                </a:lnTo>
                <a:lnTo>
                  <a:pt x="15999" y="0"/>
                </a:lnTo>
                <a:lnTo>
                  <a:pt x="21600" y="5930"/>
                </a:lnTo>
                <a:lnTo>
                  <a:pt x="18142" y="5930"/>
                </a:lnTo>
                <a:lnTo>
                  <a:pt x="181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792000" y="1881000"/>
            <a:ext cx="1655640" cy="2303280"/>
          </a:xfrm>
          <a:custGeom>
            <a:avLst/>
            <a:gdLst>
              <a:gd name="textAreaLeft" fmla="*/ 454320 w 1655640"/>
              <a:gd name="textAreaRight" fmla="*/ 1390680 w 1655640"/>
              <a:gd name="textAreaTop" fmla="*/ 1477440 h 2303280"/>
              <a:gd name="textAreaBottom" fmla="*/ 19346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7313"/>
                </a:moveTo>
                <a:lnTo>
                  <a:pt x="13855" y="17313"/>
                </a:lnTo>
                <a:lnTo>
                  <a:pt x="13855" y="5930"/>
                </a:lnTo>
                <a:lnTo>
                  <a:pt x="10397" y="5930"/>
                </a:lnTo>
                <a:lnTo>
                  <a:pt x="15999" y="0"/>
                </a:lnTo>
                <a:lnTo>
                  <a:pt x="21600" y="5930"/>
                </a:lnTo>
                <a:lnTo>
                  <a:pt x="18142" y="5930"/>
                </a:lnTo>
                <a:lnTo>
                  <a:pt x="181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3D04-F285-4578-AF7A-4971023D041E}" type="slidenum">
              <a:t>15</a:t>
            </a:fld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Для развития малого и среднего бизнеса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необходимо денежных средст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77336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ево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,1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ны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7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бюджетные источ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b3d9"/>
                          </a:solidFill>
                          <a:latin typeface="Garamond"/>
                        </a:rPr>
                        <a:t>Итого: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b3d9"/>
                          </a:solidFill>
                          <a:latin typeface="Garamond"/>
                        </a:rPr>
                        <a:t>132,8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F7F0-749C-44C4-BBB4-13F97004CFAE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Garamond"/>
              </a:rPr>
              <a:t>5. Развитие малого и среднего  </a:t>
            </a:r>
            <a:br>
              <a:rPr sz="4200"/>
            </a:br>
            <a:r>
              <a:rPr b="1" i="1" lang="ru-RU" sz="4200" spc="-1" strike="noStrike">
                <a:solidFill>
                  <a:srgbClr val="ffff00"/>
                </a:solidFill>
                <a:latin typeface="Garamond"/>
              </a:rPr>
              <a:t>бизнеса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4000" y="1268280"/>
            <a:ext cx="8613720" cy="33480"/>
            <a:chOff x="324000" y="1268280"/>
            <a:chExt cx="8613720" cy="33480"/>
          </a:xfrm>
        </p:grpSpPr>
        <p:sp>
          <p:nvSpPr>
            <p:cNvPr id="176" name=""/>
            <p:cNvSpPr/>
            <p:nvPr/>
          </p:nvSpPr>
          <p:spPr>
            <a:xfrm>
              <a:off x="325440" y="130176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126828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21040" y="1526040"/>
            <a:ext cx="2724120" cy="7794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txBody>
          <a:bodyPr anchor="t">
            <a:normAutofit fontScale="7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7-2009 гг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1844640"/>
            <a:ext cx="5905440" cy="2232000"/>
          </a:xfrm>
          <a:prstGeom prst="roundRect">
            <a:avLst>
              <a:gd name="adj" fmla="val 16667"/>
            </a:avLst>
          </a:prstGeom>
          <a:solidFill>
            <a:srgbClr val="000514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3098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здание бизнес-инкубатора для обучения школьников и безработных граждан основам частного предприниматель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48428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292640"/>
            <a:ext cx="2808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9-2012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4797360"/>
            <a:ext cx="5905440" cy="1871640"/>
          </a:xfrm>
          <a:prstGeom prst="roundRect">
            <a:avLst>
              <a:gd name="adj" fmla="val 16667"/>
            </a:avLst>
          </a:prstGeom>
          <a:solidFill>
            <a:srgbClr val="000514"/>
          </a:solidFill>
          <a:ln w="284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3197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ительство завода стройматериа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47640" y="2097000"/>
            <a:ext cx="1655640" cy="2303280"/>
          </a:xfrm>
          <a:custGeom>
            <a:avLst/>
            <a:gdLst>
              <a:gd name="textAreaLeft" fmla="*/ 454320 w 1655640"/>
              <a:gd name="textAreaRight" fmla="*/ 1390680 w 1655640"/>
              <a:gd name="textAreaTop" fmla="*/ 1477440 h 2303280"/>
              <a:gd name="textAreaBottom" fmla="*/ 193464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17313"/>
                </a:moveTo>
                <a:lnTo>
                  <a:pt x="13855" y="17313"/>
                </a:lnTo>
                <a:lnTo>
                  <a:pt x="13855" y="5930"/>
                </a:lnTo>
                <a:lnTo>
                  <a:pt x="10397" y="5930"/>
                </a:lnTo>
                <a:lnTo>
                  <a:pt x="15999" y="0"/>
                </a:lnTo>
                <a:lnTo>
                  <a:pt x="21600" y="5930"/>
                </a:lnTo>
                <a:lnTo>
                  <a:pt x="18142" y="5930"/>
                </a:lnTo>
                <a:lnTo>
                  <a:pt x="181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718920" y="4878360"/>
            <a:ext cx="1655640" cy="2303640"/>
          </a:xfrm>
          <a:custGeom>
            <a:avLst/>
            <a:gdLst>
              <a:gd name="textAreaLeft" fmla="*/ 454320 w 1655640"/>
              <a:gd name="textAreaRight" fmla="*/ 1390680 w 1655640"/>
              <a:gd name="textAreaTop" fmla="*/ 1477800 h 2303640"/>
              <a:gd name="textAreaBottom" fmla="*/ 193500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7313"/>
                </a:moveTo>
                <a:lnTo>
                  <a:pt x="13855" y="17313"/>
                </a:lnTo>
                <a:lnTo>
                  <a:pt x="13855" y="5930"/>
                </a:lnTo>
                <a:lnTo>
                  <a:pt x="10397" y="5930"/>
                </a:lnTo>
                <a:lnTo>
                  <a:pt x="15999" y="0"/>
                </a:lnTo>
                <a:lnTo>
                  <a:pt x="21600" y="5930"/>
                </a:lnTo>
                <a:lnTo>
                  <a:pt x="18142" y="5930"/>
                </a:lnTo>
                <a:lnTo>
                  <a:pt x="181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1DD6-DEDC-4E7B-9C30-4E57BF4E1A5B}" type="slidenum">
              <a:t>17</a:t>
            </a:fld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Результаты реализации программы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(к 2012 году)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нижение уровня безработицы на 22,2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среднемесячной зарплаты в 2,4 раз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оборота розничной торговли на 39,9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объема платных услуг, оказанных населению в 2 раз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объема инвестиций в основной капитал в 2,7 раз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ввода в эксплуатацию жилых домов в 2,1 раз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341360"/>
            <a:ext cx="8613720" cy="33480"/>
            <a:chOff x="324000" y="1341360"/>
            <a:chExt cx="8613720" cy="33480"/>
          </a:xfrm>
        </p:grpSpPr>
        <p:sp>
          <p:nvSpPr>
            <p:cNvPr id="188" name=""/>
            <p:cNvSpPr/>
            <p:nvPr/>
          </p:nvSpPr>
          <p:spPr>
            <a:xfrm>
              <a:off x="325440" y="137484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00" y="134136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AFA2-D97C-49E9-92EC-BE1AB8DB2A0A}" type="slidenum">
              <a:t>18</a:t>
            </a:fld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Результаты реализации программы (к 2012 году)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ts val="33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количества туристических маршрутов до 12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ts val="33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числа гостиничных мест с 71 до 858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ts val="33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Доля безубыточности предприятий ЖКХ вырастет с 25 до 100%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ts val="33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казатель аварийности коммунальных сетей снизится с 36,2 до 19,1 аварий на 100 км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ts val="33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объема товаров и услуг в сфере малого бизнеса в 1,6 раз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ts val="33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Увеличение собственных доходов бюджета города в 1,8 раз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0920" y="1197000"/>
            <a:ext cx="8613720" cy="33480"/>
            <a:chOff x="250920" y="1197000"/>
            <a:chExt cx="8613720" cy="33480"/>
          </a:xfrm>
        </p:grpSpPr>
        <p:sp>
          <p:nvSpPr>
            <p:cNvPr id="193" name=""/>
            <p:cNvSpPr/>
            <p:nvPr/>
          </p:nvSpPr>
          <p:spPr>
            <a:xfrm>
              <a:off x="252360" y="123048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0920" y="119700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7489-5395-4D30-9B65-5660EFC88114}" type="slidenum">
              <a:t>19</a:t>
            </a:fld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708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Garamond"/>
              </a:rPr>
              <a:t>ПРОГРАММА </a:t>
            </a:r>
            <a:br>
              <a:rPr sz="3200"/>
            </a:br>
            <a:r>
              <a:rPr b="1" lang="ru-RU" sz="2800" spc="-1" strike="noStrike">
                <a:solidFill>
                  <a:srgbClr val="ffff99"/>
                </a:solidFill>
                <a:latin typeface="Garamond"/>
              </a:rPr>
              <a:t>СОЦИАЛЬНО-ЭКОНОМИЧЕСКОГО РАЗВИТИЯ Г. ЕНИСЕЙСКА ДО 2017 ГОД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773360"/>
            <a:ext cx="8613720" cy="33120"/>
            <a:chOff x="324000" y="1773360"/>
            <a:chExt cx="8613720" cy="33120"/>
          </a:xfrm>
        </p:grpSpPr>
        <p:sp>
          <p:nvSpPr>
            <p:cNvPr id="105" name=""/>
            <p:cNvSpPr/>
            <p:nvPr/>
          </p:nvSpPr>
          <p:spPr>
            <a:xfrm>
              <a:off x="325440" y="180648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4000" y="177336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8360" y="2205000"/>
            <a:ext cx="8424720" cy="388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рограмма социально-экономического развития охватывает </a:t>
            </a:r>
            <a:r>
              <a:rPr b="1" lang="ru-RU" sz="3600" spc="-1" strike="noStrike">
                <a:solidFill>
                  <a:srgbClr val="ff9999"/>
                </a:solidFill>
                <a:latin typeface="Arial"/>
              </a:rPr>
              <a:t>среднесроч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период (с 2007 по 2012 годы) и </a:t>
            </a:r>
            <a:r>
              <a:rPr b="1" lang="ru-RU" sz="3600" spc="-1" strike="noStrike">
                <a:solidFill>
                  <a:srgbClr val="ff99cc"/>
                </a:solidFill>
                <a:latin typeface="Arial"/>
              </a:rPr>
              <a:t>долгосроч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период 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(с 2012 по 2017 годы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94DE-8B61-43B6-8CA1-31E83D54CB34}" type="slidenum">
              <a:t>2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Результаты реализации программы 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(к 2012 году)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7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полнительно будут созданы 643 новых рабочих ме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чительно улучшится экологическая ситуац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благодаря закрытию устаревших котельных, строительству водозабор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игона бытовых отходов, скотомогильн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ремонту очистных сооружений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4000" y="1341360"/>
            <a:ext cx="8613720" cy="33480"/>
            <a:chOff x="324000" y="1341360"/>
            <a:chExt cx="8613720" cy="33480"/>
          </a:xfrm>
        </p:grpSpPr>
        <p:sp>
          <p:nvSpPr>
            <p:cNvPr id="198" name=""/>
            <p:cNvSpPr/>
            <p:nvPr/>
          </p:nvSpPr>
          <p:spPr>
            <a:xfrm>
              <a:off x="325440" y="137484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4000" y="134136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D336-DBC2-4A67-B306-A7A5E7F3E322}" type="slidenum">
              <a:t>20</a:t>
            </a:fld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Garamond"/>
              </a:rPr>
              <a:t>Развитие туристической отрасли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abfbad"/>
                </a:solidFill>
                <a:latin typeface="Garamond"/>
              </a:rPr>
              <a:t>потенциальная емкость всех видов туризма – от 20 до 50 тысяч человеко-дней в год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5877000"/>
            <a:ext cx="8613720" cy="33120"/>
            <a:chOff x="324000" y="5877000"/>
            <a:chExt cx="8613720" cy="33120"/>
          </a:xfrm>
        </p:grpSpPr>
        <p:sp>
          <p:nvSpPr>
            <p:cNvPr id="202" name=""/>
            <p:cNvSpPr/>
            <p:nvPr/>
          </p:nvSpPr>
          <p:spPr>
            <a:xfrm>
              <a:off x="325440" y="591012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587700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B207-BFFC-4818-80F5-70BFF8C8BB85}" type="slidenum">
              <a:t>21</a:t>
            </a:fld>
          </a:p>
        </p:txBody>
      </p:sp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Развитие туристической отрасли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9280" y="789120"/>
          <a:ext cx="8785440" cy="6068880"/>
        </p:xfrm>
        <a:graphic>
          <a:graphicData uri="http://schemas.openxmlformats.org/drawingml/2006/table">
            <a:tbl>
              <a:tblPr/>
              <a:tblGrid>
                <a:gridCol w="7056720"/>
                <a:gridCol w="172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уроператорская фи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08-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приятия обществ. питания, стилизованные под 19 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10-20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ородные предприятия обществ. пит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08-20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сторан на 60 м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09-20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сторан на дебаркадере в стиле 19 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норазвлекательный комплек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11-20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зиденция Деда Моро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12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стиничный комплекс низкой этаж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12 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приятие по производству сувенирной проду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977e0"/>
                          </a:solidFill>
                          <a:latin typeface="Garamond"/>
                        </a:rPr>
                        <a:t>2008-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8351-BBE2-45A2-A42B-4D7AD7EA500A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aramond"/>
              </a:rPr>
              <a:t>Ресурсное обеспечение программы</a:t>
            </a:r>
            <a:br>
              <a:rPr sz="4000"/>
            </a:br>
            <a:r>
              <a:rPr b="1" lang="ru-RU" sz="3200" spc="-1" strike="noStrike">
                <a:solidFill>
                  <a:srgbClr val="abfbad"/>
                </a:solidFill>
                <a:latin typeface="Garamond"/>
              </a:rPr>
              <a:t>общий объем финансирования мероприятий составляет 6 085,9 млн руб</a:t>
            </a:r>
            <a:r>
              <a:rPr b="1" lang="ru-RU" sz="28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4000" y="1628640"/>
            <a:ext cx="8613720" cy="33480"/>
            <a:chOff x="324000" y="1628640"/>
            <a:chExt cx="8613720" cy="33480"/>
          </a:xfrm>
        </p:grpSpPr>
        <p:sp>
          <p:nvSpPr>
            <p:cNvPr id="208" name=""/>
            <p:cNvSpPr/>
            <p:nvPr/>
          </p:nvSpPr>
          <p:spPr>
            <a:xfrm>
              <a:off x="325440" y="166212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162864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0" y="1677960"/>
          <a:ext cx="920268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20268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 flipV="1">
            <a:off x="4500720" y="2205000"/>
            <a:ext cx="287280" cy="50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724360" y="2923920"/>
            <a:ext cx="792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258920" y="5589720"/>
            <a:ext cx="50328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8272-9C61-480C-842E-6A92A710701B}" type="slidenum">
              <a:t>23</a:t>
            </a:fld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708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Garamond"/>
              </a:rPr>
              <a:t>ПРИОРИТЕНЫМИ НАПРАВЛЕНИЯМИ РАЗВИТИЯ ГОРОДА НА ПЕРИОД ДО  2012 ГОДА ЯВЛЯЮТСЯ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оживания и предпринима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инфраструктуры для развития туриз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ное строительств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отрасли строительных матери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4000" y="1916280"/>
            <a:ext cx="8613720" cy="33120"/>
            <a:chOff x="324000" y="1916280"/>
            <a:chExt cx="8613720" cy="33120"/>
          </a:xfrm>
        </p:grpSpPr>
        <p:sp>
          <p:nvSpPr>
            <p:cNvPr id="111" name=""/>
            <p:cNvSpPr/>
            <p:nvPr/>
          </p:nvSpPr>
          <p:spPr>
            <a:xfrm>
              <a:off x="325440" y="194940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191628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86EC-BB0A-4B20-95E3-CED769DD3815}" type="slidenum">
              <a:t>3</a:t>
            </a:fld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924280"/>
            <a:ext cx="8893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624"/>
              </a:spcBef>
              <a:buClr>
                <a:srgbClr val="ff66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вышение качества социальных услуг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10000"/>
              </a:lnSpc>
              <a:spcBef>
                <a:spcPts val="1624"/>
              </a:spcBef>
              <a:buClr>
                <a:srgbClr val="ff66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беспечение безопасной жизнедеятельности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10000"/>
              </a:lnSpc>
              <a:spcBef>
                <a:spcPts val="1624"/>
              </a:spcBef>
              <a:buClr>
                <a:srgbClr val="ff66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вышение эффективности жилищно-коммунального хозяйст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10000"/>
              </a:lnSpc>
              <a:spcBef>
                <a:spcPts val="1624"/>
              </a:spcBef>
              <a:buClr>
                <a:srgbClr val="ff66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азвитие туристической отрасл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10000"/>
              </a:lnSpc>
              <a:spcBef>
                <a:spcPts val="1624"/>
              </a:spcBef>
              <a:buClr>
                <a:srgbClr val="ff66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азвитие малого и среднего бизнес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1773360"/>
            <a:ext cx="8613720" cy="33120"/>
            <a:chOff x="324000" y="1773360"/>
            <a:chExt cx="8613720" cy="33120"/>
          </a:xfrm>
        </p:grpSpPr>
        <p:sp>
          <p:nvSpPr>
            <p:cNvPr id="115" name=""/>
            <p:cNvSpPr/>
            <p:nvPr/>
          </p:nvSpPr>
          <p:spPr>
            <a:xfrm>
              <a:off x="325440" y="1806480"/>
              <a:ext cx="475776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00" y="1773360"/>
              <a:ext cx="8613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b03b"/>
                </a:solidFill>
                <a:uFillTx/>
                <a:latin typeface="Arial"/>
              </a:rPr>
              <a:t>Суть стратегии до 2017 года</a:t>
            </a:r>
            <a:r>
              <a:rPr b="1" lang="ru-RU" sz="2800" spc="-1" strike="noStrike">
                <a:solidFill>
                  <a:srgbClr val="ffb03b"/>
                </a:solidFill>
                <a:latin typeface="Arial"/>
              </a:rPr>
              <a:t> – развитие туристической и производственной отраслей экономики города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916280"/>
            <a:ext cx="878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66"/>
                </a:solidFill>
                <a:uFillTx/>
                <a:latin typeface="Arial"/>
              </a:rPr>
              <a:t>Основные цели программы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DBD7-9CEC-4D1E-801A-EC6CABA7E954}" type="slidenum">
              <a:t>4</a:t>
            </a:fld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Для повышения качества социальных услуг необходимо денежных средст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916280"/>
          <a:ext cx="8229600" cy="4584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ево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02,6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ны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7,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бюджетные источ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8,2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Итого: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3898,1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497A-8BFB-494E-8292-29CBABDBB9A8}" type="slidenum">
              <a:t>5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Garamond"/>
              </a:rPr>
              <a:t>1. </a:t>
            </a:r>
            <a:r>
              <a:rPr b="1" i="1" lang="ru-RU" sz="4000" spc="-1" strike="noStrike">
                <a:solidFill>
                  <a:srgbClr val="ffff00"/>
                </a:solidFill>
                <a:latin typeface="Garamond"/>
              </a:rPr>
              <a:t>Повышение качества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Garamond"/>
              </a:rPr>
              <a:t>социальных услуг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176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держка молодых семей в получении ипотечного кредит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ершение строительства школы, акушерского корпус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оительство двух 16-квартирных домов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физкультуры и спорт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ие двух новых детских садов и дополнительной группы в ДОУ №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1916280"/>
            <a:ext cx="450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ts val="2398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оительство трех 16-квартирных домов, физкультурно-спортивного центра с бассейно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2398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ие отделения социально-медицинского обслуживания на дому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2398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обретение оборудования для учреждений культуры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2398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центра народных ремесел, поддержка одаренных детей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2398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парковой зоны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ts val="2398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комбината школьного пита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197000"/>
            <a:ext cx="288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7-2009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197000"/>
            <a:ext cx="2879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9-2012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341360"/>
            <a:ext cx="0" cy="551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7AE2-FB49-417F-832D-408D16A8ED3B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Для обеспечения безопасной жизнедеятельности 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необходимо денежных средст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2421000"/>
          <a:ext cx="8229600" cy="367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ево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1,4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ный бюдже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,2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Итого: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99cc"/>
                          </a:solidFill>
                          <a:latin typeface="Garamond"/>
                        </a:rPr>
                        <a:t>526,6 млн р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5D06-E22B-445B-86AE-F8BDE6258B42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4652640"/>
            <a:ext cx="8569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00"/>
                </a:solidFill>
                <a:latin typeface="Garamond"/>
              </a:rPr>
              <a:t>2. Обеспечение безопасной  </a:t>
            </a:r>
            <a:br>
              <a:rPr sz="4600"/>
            </a:br>
            <a:r>
              <a:rPr b="1" i="1" lang="ru-RU" sz="4600" spc="-1" strike="noStrike">
                <a:solidFill>
                  <a:srgbClr val="ffff00"/>
                </a:solidFill>
                <a:latin typeface="Garamond"/>
              </a:rPr>
              <a:t>жизнедеятельности</a:t>
            </a:r>
            <a:endParaRPr b="1" lang="en-US" sz="4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01400" y="5847120"/>
            <a:ext cx="2723760" cy="7794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txBody>
          <a:bodyPr anchor="t">
            <a:normAutofit fontScale="7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7-2009 гг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48428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248000" y="78840"/>
            <a:ext cx="647640" cy="8642160"/>
          </a:xfrm>
          <a:custGeom>
            <a:avLst/>
            <a:gdLst>
              <a:gd name="textAreaLeft" fmla="*/ 414000 w 647640"/>
              <a:gd name="textAreaRight" fmla="*/ 648000 w 647640"/>
              <a:gd name="textAreaTop" fmla="*/ 225360 h 8642160"/>
              <a:gd name="textAreaBottom" fmla="*/ 8416800 h 864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89000"/>
            <a:ext cx="8281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опасность библиотечных фондо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монт светофорных объект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ка дорожных зна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ительство двух 60-квартирных домов (взамен ветхого жиль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упреждение, снижение ущерба от ЧС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лучшение противопожарного состояния гор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F50A-A088-4BE5-B7C5-F0C08F033BFD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450864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00"/>
                </a:solidFill>
                <a:latin typeface="Garamond"/>
              </a:rPr>
              <a:t>2. Обеспечение безопасной  </a:t>
            </a:r>
            <a:br>
              <a:rPr sz="4600"/>
            </a:br>
            <a:r>
              <a:rPr b="1" i="1" lang="ru-RU" sz="4600" spc="-1" strike="noStrike">
                <a:solidFill>
                  <a:srgbClr val="ffff00"/>
                </a:solidFill>
                <a:latin typeface="Garamond"/>
              </a:rPr>
              <a:t>жизнедеятельности</a:t>
            </a:r>
            <a:endParaRPr b="1" lang="en-US" sz="4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148428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5805360"/>
            <a:ext cx="2808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2009-2012 гг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248000" y="79200"/>
            <a:ext cx="719280" cy="8713800"/>
          </a:xfrm>
          <a:custGeom>
            <a:avLst/>
            <a:gdLst>
              <a:gd name="textAreaLeft" fmla="*/ 459720 w 719280"/>
              <a:gd name="textAreaRight" fmla="*/ 719640 w 719280"/>
              <a:gd name="textAreaTop" fmla="*/ 227160 h 8713800"/>
              <a:gd name="textAreaBottom" fmla="*/ 8486640 h 871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89000"/>
            <a:ext cx="8424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обретение средств пожарно-охранной сигнализации и автоматизации учреждений культуры и образован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ьный ремонт учреждений культуры и образов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действие ВИЧ и вакцинопрофилактика насе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действие безнадзорности и правонарушениям несовершеннолетн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C331-03CE-464D-97A1-7C83B8CA38E4}" type="slidenum">
              <a:t>9</a:t>
            </a:fld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Victoria</cp:lastModifiedBy>
  <cp:lastPrinted>2007-02-01T20:44:15Z</cp:lastPrinted>
  <dcterms:modified xsi:type="dcterms:W3CDTF">2007-12-11T08:09:53Z</dcterms:modified>
  <cp:revision>882</cp:revision>
  <dc:subject/>
  <dc:title>No Slide Title</dc:title>
</cp:coreProperties>
</file>